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90DAF-4FAB-4596-BBAA-2CBA573D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697D1-7A8D-48F7-B978-53FA7E2B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90085-DED4-4DDF-98FD-131CD07A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A5C55-2ED9-40AC-8C64-A207E72E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3CE0-2A55-47D8-961A-7BA67DB9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DB10-F868-463C-90FB-8398D296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3A46-5170-4D4F-B2C7-9F882707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0545-1BF2-448E-9792-6E7350D4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43FE-694D-4BB5-AAAF-56ED37AA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7F51-B256-4933-8E08-C09F30DA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723E-E954-4E36-88F4-7E9387B5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B562A-696E-4DF0-8B08-2ED6E290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125A-7BA2-42A5-94EE-52386AD4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A5D8-AD84-422E-A631-B9627137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11E3-B2E2-4D7C-A861-2C4F945A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A7AF-5E06-4202-9B84-427AF843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E668-73B3-49DC-B857-62BB5683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14656-6FB4-43C0-B5F2-A17E3677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015B6-6FF4-45CF-B57D-E9B199DA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D413C-548A-4F5D-A9AC-3A4A8377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CABF2-A9C0-46FA-AE28-9A0BE29D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B79AB-B2D0-4764-BD91-1B78AF08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37B3E-629C-4C61-9C69-0A432965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DE931-5864-4EAF-9BAA-D7D3DA2D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F3D4-A33F-4E0E-A7B9-3EBDFBABAF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F286-3614-46F0-B8C9-71444E86D6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riunghiul dreptunghic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Funcţii trigonomet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0"/>
          <p:cNvGrpSpPr/>
          <p:nvPr/>
        </p:nvGrpSpPr>
        <p:grpSpPr>
          <a:xfrm>
            <a:off x="539640" y="1268280"/>
            <a:ext cx="6224760" cy="4921560"/>
            <a:chOff x="539640" y="1268280"/>
            <a:chExt cx="6224760" cy="4921560"/>
          </a:xfrm>
        </p:grpSpPr>
        <p:sp>
          <p:nvSpPr>
            <p:cNvPr id="194" name="AutoShape 10"/>
            <p:cNvSpPr/>
            <p:nvPr/>
          </p:nvSpPr>
          <p:spPr>
            <a:xfrm rot="7493400">
              <a:off x="1946160" y="1864080"/>
              <a:ext cx="2817000" cy="403380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2"/>
            <p:cNvSpPr/>
            <p:nvPr/>
          </p:nvSpPr>
          <p:spPr>
            <a:xfrm>
              <a:off x="5865840" y="3572280"/>
              <a:ext cx="89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3"/>
            <p:cNvSpPr/>
            <p:nvPr/>
          </p:nvSpPr>
          <p:spPr>
            <a:xfrm>
              <a:off x="2255040" y="1268280"/>
              <a:ext cx="76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4"/>
            <p:cNvSpPr/>
            <p:nvPr/>
          </p:nvSpPr>
          <p:spPr>
            <a:xfrm>
              <a:off x="539640" y="3525840"/>
              <a:ext cx="89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000" y="4076640"/>
            <a:ext cx="828036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sinus = raportul dintre cateta opusă şi ipotenuz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cosinus = raportul dintre cateta alăturată şi ipotenuz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tangentă = raportul dintre cateta opusă şi cateta alăturat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cotangentă = raportul dintre cateta alăturată şi cateta opus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 este triunghiul dreptunghi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numeste triunghi dreptunghic, triunghiul care are un unghi dr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8"/>
          <p:cNvGrpSpPr/>
          <p:nvPr/>
        </p:nvGrpSpPr>
        <p:grpSpPr>
          <a:xfrm>
            <a:off x="4067280" y="3284640"/>
            <a:ext cx="3817800" cy="2449440"/>
            <a:chOff x="4067280" y="3284640"/>
            <a:chExt cx="3817800" cy="2449440"/>
          </a:xfrm>
        </p:grpSpPr>
        <p:sp>
          <p:nvSpPr>
            <p:cNvPr id="120" name="AutoShape 5"/>
            <p:cNvSpPr/>
            <p:nvPr/>
          </p:nvSpPr>
          <p:spPr>
            <a:xfrm rot="16200000">
              <a:off x="4751280" y="2600280"/>
              <a:ext cx="2449440" cy="381780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7"/>
            <p:cNvSpPr/>
            <p:nvPr/>
          </p:nvSpPr>
          <p:spPr>
            <a:xfrm>
              <a:off x="7667640" y="5516640"/>
              <a:ext cx="217440" cy="2174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m se numesc laturile triunghiului dreptungh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2920" y="3429000"/>
            <a:ext cx="403884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, AC – cat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- ipotenu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7"/>
          <p:cNvGrpSpPr/>
          <p:nvPr/>
        </p:nvGrpSpPr>
        <p:grpSpPr>
          <a:xfrm>
            <a:off x="748080" y="1989000"/>
            <a:ext cx="3925440" cy="4126680"/>
            <a:chOff x="748080" y="1989000"/>
            <a:chExt cx="3925440" cy="4126680"/>
          </a:xfrm>
        </p:grpSpPr>
        <p:grpSp>
          <p:nvGrpSpPr>
            <p:cNvPr id="125" name="Group 15"/>
            <p:cNvGrpSpPr/>
            <p:nvPr/>
          </p:nvGrpSpPr>
          <p:grpSpPr>
            <a:xfrm>
              <a:off x="748080" y="1989000"/>
              <a:ext cx="3925440" cy="4126680"/>
              <a:chOff x="748080" y="1989000"/>
              <a:chExt cx="3925440" cy="4126680"/>
            </a:xfrm>
          </p:grpSpPr>
          <p:sp>
            <p:nvSpPr>
              <p:cNvPr id="126" name="AutoShape 8"/>
              <p:cNvSpPr/>
              <p:nvPr/>
            </p:nvSpPr>
            <p:spPr>
              <a:xfrm rot="3084000">
                <a:off x="1815480" y="2649240"/>
                <a:ext cx="2198520" cy="2745000"/>
              </a:xfrm>
              <a:prstGeom prst="rtTriangl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9"/>
              <p:cNvSpPr/>
              <p:nvPr/>
            </p:nvSpPr>
            <p:spPr>
              <a:xfrm>
                <a:off x="3270240" y="1989000"/>
                <a:ext cx="36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10"/>
              <p:cNvSpPr/>
              <p:nvPr/>
            </p:nvSpPr>
            <p:spPr>
              <a:xfrm rot="21458400">
                <a:off x="755280" y="3722040"/>
                <a:ext cx="31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1"/>
              <p:cNvSpPr/>
              <p:nvPr/>
            </p:nvSpPr>
            <p:spPr>
              <a:xfrm rot="21475200">
                <a:off x="2441520" y="5740200"/>
                <a:ext cx="40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Rectangle 16"/>
            <p:cNvSpPr/>
            <p:nvPr/>
          </p:nvSpPr>
          <p:spPr>
            <a:xfrm rot="2952600">
              <a:off x="1208160" y="3912120"/>
              <a:ext cx="192240" cy="235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63480" y="544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 proprietate au unghiurile ascutite ale unui triunghi dreptunghi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5545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ghiurile ascutite ale unui triunghi dreptunghic sunt complement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(&lt;B) + m(&lt;C) =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4"/>
          <p:cNvGrpSpPr/>
          <p:nvPr/>
        </p:nvGrpSpPr>
        <p:grpSpPr>
          <a:xfrm>
            <a:off x="4676760" y="2952360"/>
            <a:ext cx="3515400" cy="2950920"/>
            <a:chOff x="4676760" y="2952360"/>
            <a:chExt cx="3515400" cy="2950920"/>
          </a:xfrm>
        </p:grpSpPr>
        <p:sp>
          <p:nvSpPr>
            <p:cNvPr id="134" name="AutoShape 9"/>
            <p:cNvSpPr/>
            <p:nvPr/>
          </p:nvSpPr>
          <p:spPr>
            <a:xfrm rot="16225800">
              <a:off x="5354280" y="3075480"/>
              <a:ext cx="2198880" cy="274464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0"/>
            <p:cNvSpPr/>
            <p:nvPr/>
          </p:nvSpPr>
          <p:spPr>
            <a:xfrm rot="21322200">
              <a:off x="4690800" y="5363640"/>
              <a:ext cx="36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1"/>
            <p:cNvSpPr/>
            <p:nvPr/>
          </p:nvSpPr>
          <p:spPr>
            <a:xfrm rot="21473400">
              <a:off x="7713720" y="5526360"/>
              <a:ext cx="4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2"/>
            <p:cNvSpPr/>
            <p:nvPr/>
          </p:nvSpPr>
          <p:spPr>
            <a:xfrm rot="21473400">
              <a:off x="7661880" y="2959560"/>
              <a:ext cx="4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3"/>
            <p:cNvSpPr/>
            <p:nvPr/>
          </p:nvSpPr>
          <p:spPr>
            <a:xfrm rot="16094400">
              <a:off x="7614360" y="5338800"/>
              <a:ext cx="192240" cy="235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1912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m se calculeaza aria si perimetrul unui triunghi dreptunghic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7"/>
          <p:cNvGrpSpPr/>
          <p:nvPr/>
        </p:nvGrpSpPr>
        <p:grpSpPr>
          <a:xfrm>
            <a:off x="611280" y="1773360"/>
            <a:ext cx="3889080" cy="3783240"/>
            <a:chOff x="611280" y="1773360"/>
            <a:chExt cx="3889080" cy="3783240"/>
          </a:xfrm>
        </p:grpSpPr>
        <p:sp>
          <p:nvSpPr>
            <p:cNvPr id="141" name="AutoShape 10"/>
            <p:cNvSpPr/>
            <p:nvPr/>
          </p:nvSpPr>
          <p:spPr>
            <a:xfrm>
              <a:off x="1261440" y="2057760"/>
              <a:ext cx="2374560" cy="322668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2"/>
            <p:cNvSpPr/>
            <p:nvPr/>
          </p:nvSpPr>
          <p:spPr>
            <a:xfrm>
              <a:off x="611280" y="1773360"/>
              <a:ext cx="75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3"/>
            <p:cNvSpPr/>
            <p:nvPr/>
          </p:nvSpPr>
          <p:spPr>
            <a:xfrm>
              <a:off x="611280" y="5188320"/>
              <a:ext cx="6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4"/>
            <p:cNvSpPr/>
            <p:nvPr/>
          </p:nvSpPr>
          <p:spPr>
            <a:xfrm>
              <a:off x="3745440" y="5094360"/>
              <a:ext cx="7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5"/>
            <p:cNvSpPr/>
            <p:nvPr/>
          </p:nvSpPr>
          <p:spPr>
            <a:xfrm>
              <a:off x="2988000" y="3956760"/>
              <a:ext cx="7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6"/>
            <p:cNvSpPr/>
            <p:nvPr/>
          </p:nvSpPr>
          <p:spPr>
            <a:xfrm flipV="1">
              <a:off x="1261440" y="4240440"/>
              <a:ext cx="1619640" cy="10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ectangle 18"/>
          <p:cNvSpPr/>
          <p:nvPr/>
        </p:nvSpPr>
        <p:spPr>
          <a:xfrm>
            <a:off x="5072040" y="485784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1"/>
              <p:cNvSpPr txBox="1"/>
              <p:nvPr/>
            </p:nvSpPr>
            <p:spPr>
              <a:xfrm>
                <a:off x="5143680" y="1857240"/>
                <a:ext cx="21049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3"/>
              <p:cNvSpPr txBox="1"/>
              <p:nvPr/>
            </p:nvSpPr>
            <p:spPr>
              <a:xfrm>
                <a:off x="5072040" y="3286080"/>
                <a:ext cx="21049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rietatea medianei corespunzatoare ipotenuz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71320" y="2142720"/>
            <a:ext cx="7900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ntr-un triunghi dreptunghic, lungimea medianei corespunzătoare ipotenuzei este egală cu jumătate din lungimea ipotenuze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3"/>
          <p:cNvGrpSpPr/>
          <p:nvPr/>
        </p:nvGrpSpPr>
        <p:grpSpPr>
          <a:xfrm>
            <a:off x="2421000" y="3071880"/>
            <a:ext cx="5718240" cy="2936880"/>
            <a:chOff x="2421000" y="3071880"/>
            <a:chExt cx="5718240" cy="2936880"/>
          </a:xfrm>
        </p:grpSpPr>
        <p:sp>
          <p:nvSpPr>
            <p:cNvPr id="156" name="AutoShape 9"/>
            <p:cNvSpPr/>
            <p:nvPr/>
          </p:nvSpPr>
          <p:spPr>
            <a:xfrm rot="16352400">
              <a:off x="4282200" y="2258640"/>
              <a:ext cx="2198520" cy="449604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0"/>
            <p:cNvSpPr/>
            <p:nvPr/>
          </p:nvSpPr>
          <p:spPr>
            <a:xfrm rot="21448800">
              <a:off x="2428560" y="5363640"/>
              <a:ext cx="59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1"/>
            <p:cNvSpPr/>
            <p:nvPr/>
          </p:nvSpPr>
          <p:spPr>
            <a:xfrm>
              <a:off x="7367040" y="5640480"/>
              <a:ext cx="77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2"/>
            <p:cNvSpPr/>
            <p:nvPr/>
          </p:nvSpPr>
          <p:spPr>
            <a:xfrm>
              <a:off x="7437240" y="3071880"/>
              <a:ext cx="6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3"/>
            <p:cNvSpPr/>
            <p:nvPr/>
          </p:nvSpPr>
          <p:spPr>
            <a:xfrm rot="16221000">
              <a:off x="7419960" y="5565240"/>
              <a:ext cx="156960" cy="1404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Conector drept 10"/>
          <p:cNvSpPr/>
          <p:nvPr/>
        </p:nvSpPr>
        <p:spPr>
          <a:xfrm flipH="1" flipV="1">
            <a:off x="5428800" y="4500360"/>
            <a:ext cx="2143080" cy="1214280"/>
          </a:xfrm>
          <a:prstGeom prst="line">
            <a:avLst/>
          </a:prstGeom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CasetăText 20"/>
          <p:cNvSpPr/>
          <p:nvPr/>
        </p:nvSpPr>
        <p:spPr>
          <a:xfrm>
            <a:off x="5000760" y="42148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1000080" y="4000680"/>
                <a:ext cx="168588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eorema înălţim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9640" y="119700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tr-un triunghi dreptunghic, înălţimea dusă din vârful unghiului drept este medie proporţională între segmentele determinate de ea pe ipotenuz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24000" y="37159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=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BD ∙  D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7"/>
          <p:cNvGrpSpPr/>
          <p:nvPr/>
        </p:nvGrpSpPr>
        <p:grpSpPr>
          <a:xfrm>
            <a:off x="900000" y="2565360"/>
            <a:ext cx="4041000" cy="3741840"/>
            <a:chOff x="900000" y="2565360"/>
            <a:chExt cx="4041000" cy="3741840"/>
          </a:xfrm>
        </p:grpSpPr>
        <p:sp>
          <p:nvSpPr>
            <p:cNvPr id="168" name="AutoShape 10"/>
            <p:cNvSpPr/>
            <p:nvPr/>
          </p:nvSpPr>
          <p:spPr>
            <a:xfrm>
              <a:off x="1575720" y="2846160"/>
              <a:ext cx="2467440" cy="318744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900000" y="2565360"/>
              <a:ext cx="7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900000" y="5938920"/>
              <a:ext cx="67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4156560" y="584604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369960" y="472212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 flipV="1">
              <a:off x="1575720" y="5002560"/>
              <a:ext cx="1683000" cy="103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eorema catet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tr-un triunghi dreptunghic, o catetă este medie proporţională între segmentele ipotenuză şi proiecţia ei pe ipotenuz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066920" y="4436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7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=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BD ∙ 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=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CD ∙  B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7"/>
          <p:cNvGrpSpPr/>
          <p:nvPr/>
        </p:nvGrpSpPr>
        <p:grpSpPr>
          <a:xfrm>
            <a:off x="900000" y="2565360"/>
            <a:ext cx="4041000" cy="3741840"/>
            <a:chOff x="900000" y="2565360"/>
            <a:chExt cx="4041000" cy="3741840"/>
          </a:xfrm>
        </p:grpSpPr>
        <p:sp>
          <p:nvSpPr>
            <p:cNvPr id="178" name="AutoShape 10"/>
            <p:cNvSpPr/>
            <p:nvPr/>
          </p:nvSpPr>
          <p:spPr>
            <a:xfrm>
              <a:off x="1575720" y="2846160"/>
              <a:ext cx="2467440" cy="318744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2"/>
            <p:cNvSpPr/>
            <p:nvPr/>
          </p:nvSpPr>
          <p:spPr>
            <a:xfrm>
              <a:off x="900000" y="2565360"/>
              <a:ext cx="7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3"/>
            <p:cNvSpPr/>
            <p:nvPr/>
          </p:nvSpPr>
          <p:spPr>
            <a:xfrm>
              <a:off x="900000" y="5938920"/>
              <a:ext cx="67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4"/>
            <p:cNvSpPr/>
            <p:nvPr/>
          </p:nvSpPr>
          <p:spPr>
            <a:xfrm>
              <a:off x="4156560" y="584604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5"/>
            <p:cNvSpPr/>
            <p:nvPr/>
          </p:nvSpPr>
          <p:spPr>
            <a:xfrm>
              <a:off x="3369960" y="472212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6"/>
            <p:cNvSpPr/>
            <p:nvPr/>
          </p:nvSpPr>
          <p:spPr>
            <a:xfrm flipV="1">
              <a:off x="1575720" y="5002560"/>
              <a:ext cx="1683000" cy="103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eorema lui Pitag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95280" y="1268280"/>
            <a:ext cx="8353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Într-un triunghi dreptunghic, suma lungimilor pătratelor catetelor este egală cu pătratul ipotenuze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347640" y="3715920"/>
            <a:ext cx="4969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1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+ AC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= BC</a:t>
            </a:r>
            <a:r>
              <a:rPr b="1" lang="ro-RO" sz="4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4"/>
          <p:cNvGrpSpPr/>
          <p:nvPr/>
        </p:nvGrpSpPr>
        <p:grpSpPr>
          <a:xfrm>
            <a:off x="539640" y="2565360"/>
            <a:ext cx="4041720" cy="3742200"/>
            <a:chOff x="539640" y="2565360"/>
            <a:chExt cx="4041720" cy="3742200"/>
          </a:xfrm>
        </p:grpSpPr>
        <p:sp>
          <p:nvSpPr>
            <p:cNvPr id="188" name="AutoShape 10"/>
            <p:cNvSpPr/>
            <p:nvPr/>
          </p:nvSpPr>
          <p:spPr>
            <a:xfrm>
              <a:off x="1215360" y="2846160"/>
              <a:ext cx="2467800" cy="3188160"/>
            </a:xfrm>
            <a:prstGeom prst="rtTriangl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12"/>
            <p:cNvSpPr/>
            <p:nvPr/>
          </p:nvSpPr>
          <p:spPr>
            <a:xfrm>
              <a:off x="539640" y="2565360"/>
              <a:ext cx="78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3"/>
            <p:cNvSpPr/>
            <p:nvPr/>
          </p:nvSpPr>
          <p:spPr>
            <a:xfrm>
              <a:off x="539640" y="5939280"/>
              <a:ext cx="67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4"/>
            <p:cNvSpPr/>
            <p:nvPr/>
          </p:nvSpPr>
          <p:spPr>
            <a:xfrm>
              <a:off x="3796920" y="5846400"/>
              <a:ext cx="78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08:24:54Z</dcterms:created>
  <dc:creator>Bugs Bunny</dc:creator>
  <dc:description/>
  <dc:language>en-US</dc:language>
  <cp:lastModifiedBy>Cursant17</cp:lastModifiedBy>
  <dcterms:modified xsi:type="dcterms:W3CDTF">2010-08-25T11:16:47Z</dcterms:modified>
  <cp:revision>26</cp:revision>
  <dc:subject/>
  <dc:title>Triunghiul dreptunghic</dc:title>
</cp:coreProperties>
</file>